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D1E-C8C5-4691-8148-A10550CC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BBE7-A35E-403B-BC8A-931AFEA1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BB2-1F43-4B0A-997A-61CEFCB7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298-6EA3-4FE2-A3C2-ACC313F1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2BF-F842-4CA7-91D9-3E19DE54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3D7-C14C-4EDB-B18F-334EED6D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2AF-1C6E-4592-AD7A-1AE9B764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748-D27F-40EF-B86E-3A52DABE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77E-B932-4221-A816-CCF55B61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D7E-3B83-446B-995D-5768E918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B16-CF6C-4DCD-BEF6-18D9EE10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704-8B02-4760-B1B1-98EE92D2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CE4D-7360-4097-A51D-9F95E7023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1: Graphical Solutions to Equations in On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)= 30x+1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(x)=12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505320" y="1447920"/>
          <a:ext cx="531468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447920"/>
                    <a:ext cx="531468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linear equation in one variable as f(x) = g(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point of intersection of f(x) and g(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 the point of intersection of f(x) and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a linear equation in one variable by writing it as the functional equality f(x)=g(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a graphical solution for an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each side of the equation represent a function of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two functions on one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point of intersection.   The x value represents the solution to the original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-6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each side represent a function of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 2x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x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for x is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67080" y="2514600"/>
            <a:ext cx="3165480" cy="3247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3152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(x)= 2x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43800" y="3809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(x)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791320" y="2971800"/>
            <a:ext cx="1371600" cy="26668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4005360"/>
            <a:ext cx="2819160" cy="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937600">
            <a:off x="6444000" y="4188600"/>
            <a:ext cx="1576440" cy="1057320"/>
          </a:xfrm>
          <a:prstGeom prst="leftArrowCallout">
            <a:avLst>
              <a:gd name="adj1" fmla="val 25002"/>
              <a:gd name="adj2" fmla="val 25310"/>
              <a:gd name="adj3" fmla="val 24850"/>
              <a:gd name="adj4" fmla="val 453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-6= -3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2x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x)= -3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3165480" cy="3247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5943600" y="2743200"/>
            <a:ext cx="1371600" cy="26668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514600"/>
            <a:ext cx="990720" cy="274320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2438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(x)= 2x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(x)= -3x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graphically and algebraic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x-6=2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+6    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x=2x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-2x  -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5x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check it graph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165480" cy="3247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4120" y="1828800"/>
            <a:ext cx="990360" cy="297180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(x)= -3x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791320" y="1904760"/>
            <a:ext cx="1447560" cy="281916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286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g(x)= 2x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a business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nufacturer can produce and sell x items per week at the following c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)= 30x+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venue from selling those item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(x)=11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the break-even point, we must find when the revenue equals the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a business application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(x)= 30x+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x)=110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two functions equal and sol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x=30x+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-30x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 -30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x=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ufacturer must sell ten items to break 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application, pag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lso graph to check your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666880" y="2209680"/>
          <a:ext cx="409572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40957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 flipV="1">
            <a:off x="3276720" y="2057400"/>
            <a:ext cx="380880" cy="419112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276720" y="2209320"/>
            <a:ext cx="609480" cy="17528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21:57:18Z</dcterms:created>
  <dc:creator>nuhs</dc:creator>
  <dc:description/>
  <dc:language>en-US</dc:language>
  <cp:lastModifiedBy>nuhs</cp:lastModifiedBy>
  <dcterms:modified xsi:type="dcterms:W3CDTF">2007-10-29T18:14:58Z</dcterms:modified>
  <cp:revision>8</cp:revision>
  <dc:subject/>
  <dc:title>Algebra 2A</dc:title>
</cp:coreProperties>
</file>